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E157-B730-4465-AE29-C81BD9DEE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6786-9B13-481A-89E9-A89613F9AE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485-8A08-45F0-B81B-AE0284CE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DE9-5EBF-4638-9419-5A71FC3F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23C-0405-4E18-9F88-CFEAE573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C70-553F-4FB4-BEF3-A46CB489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345-3F4C-448B-9C12-288C0ECA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2B9-9F52-4AFE-B049-CBBF5CFC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5E6A-E17E-45A5-B57C-9E6AEE5A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AC19-A174-46D8-97F1-7C7105D8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D62E-F49C-4861-8562-E26E4EB5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ACF8-CA34-4044-8468-E69961B6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4E5-6894-4F5E-AA1A-2F2D83C3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BDB-08CB-41EC-A07F-01138AA6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6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55F7-DF0A-4710-B048-ABD06B0CD12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76960" y="6408720"/>
            <a:ext cx="19144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76960" y="6408720"/>
            <a:ext cx="1914480" cy="289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16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7-07-03T09:09:32Z</dcterms:modified>
  <cp:revision>89</cp:revision>
  <dc:subject/>
  <dc:title>No Slide Title</dc:title>
</cp:coreProperties>
</file>